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C2E-432E-495F-8DEC-9E3E57BE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4FE-7185-4D60-82BD-133D4C09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9D3-9CD7-4606-AB40-348850EB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15D-0700-4C09-B193-5195EB82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78D-8424-4D68-876D-90EAC020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E1A-6081-4D49-ADDC-7A852CE0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EB1-13D3-4244-9771-3A6B312B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C2F-554D-4E7F-8F5F-28A9B68C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A77-9A6E-4ECE-93A8-A55F8F40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A84-2571-4D04-A2D8-7510698A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3FB-3DFF-410F-B663-5CF41870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2FE-8169-4FA2-893F-942A663B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67F5-79BD-4952-A0E1-7308AB06A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eismology.harvard.edu/CMTsearch.html" TargetMode="External"/><Relationship Id="rId2" Type="http://schemas.openxmlformats.org/officeDocument/2006/relationships/hyperlink" Target="http://www.iris.edu/" TargetMode="External"/><Relationship Id="rId3" Type="http://schemas.openxmlformats.org/officeDocument/2006/relationships/hyperlink" Target="http://geoscope.ipgp.jussieu.fr/" TargetMode="External"/><Relationship Id="rId4" Type="http://schemas.openxmlformats.org/officeDocument/2006/relationships/hyperlink" Target="http://www.orfeus-eu.org/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a18"/>
                </a:solidFill>
                <a:latin typeface="Times New Roman"/>
              </a:rPr>
              <a:t>Calculation of Synthetic Seismograms and Surface wave Phase velocities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AN-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731040"/>
            <a:ext cx="746748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600" rIns="120600" tIns="60120" bIns="60120" anchor="b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"/>
              </a:rPr>
              <a:t>Yann Capdeville, Jean-Paul Montagner, Ylong Q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"/>
              </a:rPr>
              <a:t>Dept. Sismologie, I.P.G., Paris; F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0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8610480" cy="76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tt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  (+ 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Eigenfrequencies: 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Eigenfunctions: 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(r,t)= |n,l,m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3 quantum numbers (k={n,l,m}) =&gt;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r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∫ 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.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 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x = 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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Displacement: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,t)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,l,m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3200" spc="-1" strike="noStrike" baseline="30000">
                <a:solidFill>
                  <a:srgbClr val="ffea18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|n,l,m&gt; exp(-i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r,t)= {U( 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V(r )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V(r )/</a:t>
            </a:r>
            <a:r>
              <a:rPr b="0" lang="en-US" sz="2000" spc="-1" strike="noStrike">
                <a:solidFill>
                  <a:srgbClr val="ffea18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} Y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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{W(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- W(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} Y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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99080" y="1363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rem_color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857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Times New Roman"/>
              </a:rPr>
              <a:t>Seismic Source and Structure  Studies</a:t>
            </a:r>
            <a:br>
              <a:rPr sz="2800"/>
            </a:b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,t)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u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( r ) cos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t /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ffea18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exp(-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t/2Q) (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.F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)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Times New Roman"/>
              </a:rPr>
              <a:t>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Source Term (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.F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= (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M:</a:t>
            </a:r>
            <a:r>
              <a:rPr b="1" lang="en-US" sz="2800" spc="-1" strike="noStrike">
                <a:solidFill>
                  <a:srgbClr val="e5f528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Seismic moment tensor,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5f528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 deformation ten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eismology.harvard.edu/CMTsearch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Data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iris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geoscope.ipgp.jussieu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orfeus-eu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rcRect l="8051" t="0" r="0" b="0"/>
          <a:stretch/>
        </p:blipFill>
        <p:spPr>
          <a:xfrm rot="16200000">
            <a:off x="6147360" y="3224520"/>
            <a:ext cx="30481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4720" y="68580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Calculation of Rayleigh wave Phase veloc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1080" y="2070000"/>
            <a:ext cx="618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,t) = ∫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-∞</a:t>
            </a:r>
            <a:r>
              <a:rPr b="0" lang="en-US" sz="2400" spc="-1" strike="noStrike" baseline="30000">
                <a:solidFill>
                  <a:srgbClr val="e5f528"/>
                </a:solidFill>
                <a:latin typeface="Times New Roman"/>
              </a:rPr>
              <a:t>+∞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A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exp{-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t-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+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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}d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421080"/>
            <a:ext cx="736920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The total phase is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+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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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</a:t>
            </a:r>
            <a:r>
              <a:rPr b="0" lang="en-US" sz="2400" spc="-1" strike="noStrike">
                <a:solidFill>
                  <a:srgbClr val="e5f528"/>
                </a:solidFill>
                <a:latin typeface="Arial"/>
              </a:rPr>
              <a:t>source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</a:t>
            </a:r>
            <a:r>
              <a:rPr b="0" lang="en-US" sz="2400" spc="-1" strike="noStrike">
                <a:solidFill>
                  <a:srgbClr val="e5f528"/>
                </a:solidFill>
                <a:latin typeface="Arial"/>
              </a:rPr>
              <a:t> instrumental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-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-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  =&gt;     </a:t>
            </a: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c(</a:t>
            </a:r>
            <a:r>
              <a:rPr b="0" lang="en-US" sz="32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055520"/>
            <a:ext cx="659772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152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Codes: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nms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synthetic seismogram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filter_qin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station_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20600" y="684360"/>
            <a:ext cx="7101000" cy="548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76880" y="1364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Code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vphase_q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25080" y="228600"/>
            <a:ext cx="67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This code can be easily generaliz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9264" r="0" b="9264"/>
          <a:stretch/>
        </p:blipFill>
        <p:spPr>
          <a:xfrm>
            <a:off x="1447920" y="1355760"/>
            <a:ext cx="6172200" cy="388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41280" y="586728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You can start to make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5:51:20Z</dcterms:created>
  <dc:creator>claude allegre</dc:creator>
  <dc:description/>
  <dc:language>en-US</dc:language>
  <cp:lastModifiedBy>claude allegre</cp:lastModifiedBy>
  <dcterms:modified xsi:type="dcterms:W3CDTF">2005-09-05T09:40:30Z</dcterms:modified>
  <cp:revision>11</cp:revision>
  <dc:subject/>
  <dc:title>PowerPoint Presentation</dc:title>
</cp:coreProperties>
</file>